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ct" ContentType="image/x-pict"/>
  <Override PartName="/ppt/media/image28.png" ContentType="image/png"/>
  <Override PartName="/ppt/media/image20.pct" ContentType="image/x-pict"/>
  <Override PartName="/ppt/media/image18.pct" ContentType="image/x-pict"/>
  <Override PartName="/ppt/media/image7.png" ContentType="image/png"/>
  <Override PartName="/ppt/media/image8.pct" ContentType="image/x-pict"/>
  <Override PartName="/ppt/media/image13.pct" ContentType="image/x-pict"/>
  <Override PartName="/ppt/media/image9.pct" ContentType="image/x-pict"/>
  <Override PartName="/ppt/media/image10.pct" ContentType="image/x-pict"/>
  <Override PartName="/ppt/media/image11.pct" ContentType="image/x-pict"/>
  <Override PartName="/ppt/media/image12.pct" ContentType="image/x-pict"/>
  <Override PartName="/ppt/media/image1.png" ContentType="image/png"/>
  <Override PartName="/ppt/media/image31.png" ContentType="image/png"/>
  <Override PartName="/ppt/media/image17.pct" ContentType="image/x-pict"/>
  <Override PartName="/ppt/media/image30.pct" ContentType="image/x-pict"/>
  <Override PartName="/ppt/media/image2.jpeg" ContentType="image/jpeg"/>
  <Override PartName="/ppt/media/image32.pct" ContentType="image/x-pict"/>
  <Override PartName="/ppt/media/image5.png" ContentType="image/png"/>
  <Override PartName="/ppt/media/image16.pct" ContentType="image/x-pict"/>
  <Override PartName="/ppt/media/image4.png" ContentType="image/png"/>
  <Override PartName="/ppt/media/image15.pct" ContentType="image/x-pict"/>
  <Override PartName="/ppt/media/image24.pct" ContentType="image/x-pict"/>
  <Override PartName="/ppt/media/image27.png" ContentType="image/png"/>
  <Override PartName="/ppt/media/image6.png" ContentType="image/png"/>
  <Override PartName="/ppt/media/image3.pct" ContentType="image/x-pict"/>
  <Override PartName="/ppt/media/image29.png" ContentType="image/png"/>
  <Override PartName="/ppt/media/image26.pct" ContentType="image/x-pict"/>
  <Override PartName="/ppt/media/image14.pct" ContentType="image/x-pict"/>
  <Override PartName="/ppt/media/image19.pct" ContentType="image/x-pict"/>
  <Override PartName="/ppt/media/image21.png" ContentType="image/png"/>
  <Override PartName="/ppt/media/image22.pct" ContentType="image/x-pict"/>
  <Override PartName="/ppt/media/image23.pct" ContentType="image/x-pic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560" y="3040920"/>
            <a:ext cx="84582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27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8600" y="1599840"/>
            <a:ext cx="4127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560" y="3040920"/>
            <a:ext cx="4127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8600" y="3040920"/>
            <a:ext cx="4127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2723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4400" y="1599840"/>
            <a:ext cx="2723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4600" y="1599840"/>
            <a:ext cx="2723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560" y="3040920"/>
            <a:ext cx="2723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4400" y="3040920"/>
            <a:ext cx="2723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4600" y="3040920"/>
            <a:ext cx="2723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8458200" cy="275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275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27400" cy="275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38600" y="1599840"/>
            <a:ext cx="4127400" cy="275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560" y="439560"/>
            <a:ext cx="8458200" cy="24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27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8600" y="1599840"/>
            <a:ext cx="4127400" cy="275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04560" y="3040920"/>
            <a:ext cx="4127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8458200" cy="275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27400" cy="275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8600" y="1599840"/>
            <a:ext cx="4127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38600" y="3040920"/>
            <a:ext cx="4127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27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8600" y="1599840"/>
            <a:ext cx="4127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560" y="3040920"/>
            <a:ext cx="84582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04560" y="3040920"/>
            <a:ext cx="84582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27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8600" y="1599840"/>
            <a:ext cx="4127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560" y="3040920"/>
            <a:ext cx="4127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38600" y="3040920"/>
            <a:ext cx="4127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2723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64400" y="1599840"/>
            <a:ext cx="2723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4600" y="1599840"/>
            <a:ext cx="2723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04560" y="3040920"/>
            <a:ext cx="2723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64400" y="3040920"/>
            <a:ext cx="2723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4600" y="3040920"/>
            <a:ext cx="2723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275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27400" cy="275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8600" y="1599840"/>
            <a:ext cx="4127400" cy="275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560" y="439560"/>
            <a:ext cx="8458200" cy="24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27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8600" y="1599840"/>
            <a:ext cx="4127400" cy="275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560" y="3040920"/>
            <a:ext cx="4127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27400" cy="275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8600" y="1599840"/>
            <a:ext cx="4127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8600" y="3040920"/>
            <a:ext cx="4127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27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600" y="1599840"/>
            <a:ext cx="4127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560" y="3040920"/>
            <a:ext cx="84582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99840"/>
            <a:ext cx="8458200" cy="275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lvl="2" marL="1276200" indent="-285480">
              <a:buClr>
                <a:srgbClr val="bbbbbb"/>
              </a:buClr>
              <a:buSzPct val="4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lvl="3" marL="1676520" indent="-285840">
              <a:buClr>
                <a:srgbClr val="bbbbbb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lvl="4" marL="2190600" indent="-304560"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lvl="5" marL="2190600" indent="-304560"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lvl="6" marL="2190600" indent="-304560"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324480"/>
            <a:ext cx="7772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3772080"/>
                <a:tab algn="r" pos="754524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0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cccc0f"/>
                </a:solidFill>
                <a:latin typeface="Verdana"/>
              </a:rPr>
              <a:t>FileMaker Developer Conference 2000</a:t>
            </a:r>
            <a:r>
              <a:rPr b="0" lang="en-US" sz="1400" spc="-1" strike="noStrike">
                <a:solidFill>
                  <a:srgbClr val="cccc0f"/>
                </a:solidFill>
                <a:latin typeface="Verdana"/>
              </a:rPr>
              <a:t>	</a:t>
            </a:r>
            <a:fld id="{E0575206-038E-4D72-9EEE-B7D3F0D30249}" type="slidenum">
              <a:rPr b="0" lang="en-US" sz="900" spc="-1" strike="noStrike">
                <a:solidFill>
                  <a:srgbClr val="cccc0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998440"/>
            <a:ext cx="777240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0f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40" name=""/>
          <p:cNvSpPr/>
          <p:nvPr/>
        </p:nvSpPr>
        <p:spPr>
          <a:xfrm>
            <a:off x="685800" y="6324480"/>
            <a:ext cx="7772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0f"/>
                </a:solidFill>
                <a:latin typeface="Verdana"/>
              </a:rPr>
              <a:t>FileMaker Developer Conference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" name="Conf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648240" cy="1636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bbbb"/>
                </a:solidFill>
                <a:latin typeface="Verdana"/>
              </a:rPr>
              <a:t>Click to edit the outline text format</a:t>
            </a:r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  <a:p>
            <a:pPr lvl="1" marL="5716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bbbb"/>
                </a:solidFill>
                <a:latin typeface="Verdana"/>
              </a:rPr>
              <a:t>Second Outline Level</a:t>
            </a:r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  <a:p>
            <a:pPr lvl="2" marL="990720" algn="ctr">
              <a:buClr>
                <a:srgbClr val="bbbbbb"/>
              </a:buClr>
              <a:buSzPct val="45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bbbbb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bbbbbb"/>
              </a:solidFill>
              <a:latin typeface="Verdana"/>
            </a:endParaRPr>
          </a:p>
          <a:p>
            <a:pPr lvl="3" marL="1390680" algn="ctr">
              <a:buClr>
                <a:srgbClr val="bbbbbb"/>
              </a:buClr>
              <a:buSzPct val="4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bbbbbb"/>
                </a:solidFill>
                <a:latin typeface="Verdana"/>
              </a:rPr>
              <a:t>Fourth Outline Level</a:t>
            </a:r>
            <a:endParaRPr b="0" lang="en-US" sz="1700" spc="-1" strike="noStrike">
              <a:solidFill>
                <a:srgbClr val="bbbbbb"/>
              </a:solidFill>
              <a:latin typeface="Verdana"/>
            </a:endParaRPr>
          </a:p>
          <a:p>
            <a:pPr lvl="4" marL="1886040" algn="ctr">
              <a:lnSpc>
                <a:spcPct val="90000"/>
              </a:lnSpc>
              <a:spcBef>
                <a:spcPts val="1049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5" marL="18860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6" marL="18860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pct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pct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image" Target="../media/image23.pct"/><Relationship Id="rId3" Type="http://schemas.openxmlformats.org/officeDocument/2006/relationships/image" Target="../media/image24.pct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image" Target="../media/image26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ct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ct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244476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bbbb"/>
                </a:solidFill>
                <a:latin typeface="Verdana"/>
              </a:rPr>
              <a:t>TEC 5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9828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0f"/>
                </a:solidFill>
                <a:latin typeface="Verdana"/>
              </a:rPr>
              <a:t>Optimizing Performance with RAM Disks - The Total Package</a:t>
            </a:r>
            <a:endParaRPr b="0" lang="en-US" sz="26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7772400" cy="80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bbbb"/>
                </a:solidFill>
                <a:latin typeface="Verdana"/>
              </a:rPr>
              <a:t>Michael A. Scott</a:t>
            </a:r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bbbb"/>
                </a:solidFill>
                <a:latin typeface="Verdana"/>
              </a:rPr>
              <a:t>California Department of Transportation</a:t>
            </a:r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998440"/>
            <a:ext cx="777240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0f"/>
                </a:solidFill>
                <a:latin typeface="Verdana"/>
              </a:rPr>
              <a:t>Part III: The RAM Disk Advantage</a:t>
            </a:r>
            <a:endParaRPr b="0" lang="en-US" sz="26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5800" y="4572000"/>
            <a:ext cx="777240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bbbb"/>
                </a:solidFill>
                <a:latin typeface="Verdana"/>
              </a:rPr>
              <a:t>Episode IV: A New Hope</a:t>
            </a:r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Direct Benefits of a RAM Disk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458200" cy="209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1. Reduced File and Hard Disk Maintenance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2. Reduced File Recover Time After Server Failure; Downtime and Latency is reduced by 90-99.9%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3. More Power!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143000"/>
            <a:ext cx="8458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bbbbbb"/>
                </a:solidFill>
                <a:latin typeface="Verdana"/>
              </a:rPr>
              <a:t>Increased File Availability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505320" y="3429000"/>
            <a:ext cx="2206440" cy="278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2">
            <a:grayscl/>
          </a:blip>
          <a:stretch/>
        </p:blipFill>
        <p:spPr>
          <a:xfrm flipH="1">
            <a:off x="4572000" y="6095880"/>
            <a:ext cx="92160" cy="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Direct Benefits of a RAM Disk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6880" y="1676520"/>
            <a:ext cx="6096240" cy="310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Frequency of maintenance is reduced by 95%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Never needs optimizing or defragmenting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Never needs Norton Disk Doctor/Scan Disk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143000"/>
            <a:ext cx="8458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bbbbbb"/>
                </a:solidFill>
                <a:latin typeface="Verdana"/>
              </a:rPr>
              <a:t>1. Reduced Maintenanc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137160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152280" y="1752480"/>
            <a:ext cx="2438640" cy="2438640"/>
            <a:chOff x="152280" y="1752480"/>
            <a:chExt cx="2438640" cy="2438640"/>
          </a:xfrm>
        </p:grpSpPr>
        <p:sp>
          <p:nvSpPr>
            <p:cNvPr id="121" name=""/>
            <p:cNvSpPr/>
            <p:nvPr/>
          </p:nvSpPr>
          <p:spPr>
            <a:xfrm>
              <a:off x="152280" y="1752480"/>
              <a:ext cx="2438640" cy="2438640"/>
            </a:xfrm>
            <a:prstGeom prst="ellipse">
              <a:avLst/>
            </a:prstGeom>
            <a:noFill/>
            <a:ln w="1522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5360" y="2095560"/>
              <a:ext cx="1752480" cy="1752480"/>
            </a:xfrm>
            <a:prstGeom prst="line">
              <a:avLst/>
            </a:prstGeom>
            <a:ln w="1522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Direct Benefits of a RAM Disk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666880" y="1676160"/>
            <a:ext cx="6096240" cy="209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No “Recovery” Required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Files are copied to RAM Disk faster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95% Reduction in Recovery, when performed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1143000"/>
            <a:ext cx="8458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bbbbbb"/>
                </a:solidFill>
                <a:latin typeface="Verdana"/>
              </a:rPr>
              <a:t>2. Reduced Recovery Tim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80880" y="1143000"/>
          <a:ext cx="177804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43000"/>
                    <a:ext cx="17780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Direct Benefits of a RAM Disk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153640" cy="26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Decreased processing time for calculations, finds, sorts, and other common functions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Faster loading of data, graphics, and indexes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Decreased access time of data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Users experience faster performance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1143000"/>
            <a:ext cx="8458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bbbbbb"/>
                </a:solidFill>
                <a:latin typeface="Verdana"/>
              </a:rPr>
              <a:t>3. More Power!!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505320" y="4343400"/>
          <a:ext cx="190476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4343400"/>
                    <a:ext cx="190476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Indirect Benefits of a RAM Disk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458200" cy="209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Reduce manipulation of files during peak hours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Update files automatically during off peak hours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The Drop Box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143000"/>
            <a:ext cx="8458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bbbbbb"/>
                </a:solidFill>
                <a:latin typeface="Verdana"/>
              </a:rPr>
              <a:t>Logical extensions of the RAM Disk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The RAM Disk “Total Package”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15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1. Server Monitoring </a:t>
            </a:r>
            <a:r>
              <a:rPr b="0" i="1" lang="en-US" sz="2500" spc="-1" strike="noStrike">
                <a:solidFill>
                  <a:srgbClr val="bbbbbb"/>
                </a:solidFill>
                <a:latin typeface="Verdana"/>
              </a:rPr>
              <a:t>Software 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2. Remote Administration </a:t>
            </a:r>
            <a:r>
              <a:rPr b="0" i="1" lang="en-US" sz="2500" spc="-1" strike="noStrike">
                <a:solidFill>
                  <a:srgbClr val="bbbbbb"/>
                </a:solidFill>
                <a:latin typeface="Verdana"/>
              </a:rPr>
              <a:t>Software 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3. FileMaker “Gateway” Database (and server)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1143000"/>
            <a:ext cx="8458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bbbbbb"/>
                </a:solidFill>
                <a:latin typeface="Verdana"/>
              </a:rPr>
              <a:t>Tools to complete the RAM Disk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The RAM Disk “Total Package”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360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With RAM Disks, down-time is dependent on response time, not recovery time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Faster response = less down time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Monitoring provides 24-hour protection for servers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Instant notification of server failures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1143000"/>
            <a:ext cx="8458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bbbbbb"/>
                </a:solidFill>
                <a:latin typeface="Verdana"/>
              </a:rPr>
              <a:t>1. Server Monitoring Software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The RAM Disk “Total Package”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153640" cy="26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Upload, change, or close files from remote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Manipulate files via Finder and other applications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Administer via LAN or dial-up connections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Cross-platform compatibility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143000"/>
            <a:ext cx="8458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bbbbbb"/>
                </a:solidFill>
                <a:latin typeface="Verdana"/>
              </a:rPr>
              <a:t>2. Remote Administration Software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The RAM Disk “Total Package”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62160" y="1676160"/>
            <a:ext cx="4800600" cy="97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Automate entry points for groups of users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1143000"/>
            <a:ext cx="8458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bbbbbb"/>
                </a:solidFill>
                <a:latin typeface="Verdana"/>
              </a:rPr>
              <a:t>3. FileMaker Gateway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3467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998440"/>
            <a:ext cx="777240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0f"/>
                </a:solidFill>
                <a:latin typeface="Verdana"/>
              </a:rPr>
              <a:t>Part I: Introduction</a:t>
            </a:r>
            <a:endParaRPr b="0" lang="en-US" sz="26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4572000"/>
            <a:ext cx="777240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bbbb"/>
                </a:solidFill>
                <a:latin typeface="Verdana"/>
              </a:rPr>
              <a:t>Michael A. Scott and the Case Study</a:t>
            </a:r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3467160" cy="3048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The RAM Disk “Total Package”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62160" y="1676160"/>
            <a:ext cx="4800600" cy="97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ff"/>
                </a:solidFill>
                <a:latin typeface="Verdana"/>
              </a:rPr>
              <a:t>Automate entry points for groups of users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1143000"/>
            <a:ext cx="8458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bbbbbb"/>
                </a:solidFill>
                <a:latin typeface="Verdana"/>
              </a:rPr>
              <a:t>3. FileMaker Gateway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2558880"/>
            <a:ext cx="480060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3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Control user acces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The RAM Disk “Total Package”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62160" y="1676160"/>
            <a:ext cx="4800600" cy="14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ff"/>
                </a:solidFill>
                <a:latin typeface="Verdana"/>
              </a:rPr>
              <a:t>Automate entry points for groups of users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ff"/>
                </a:solidFill>
                <a:latin typeface="Verdana"/>
              </a:rPr>
              <a:t>Control user access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1143000"/>
            <a:ext cx="8458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bbbbbb"/>
                </a:solidFill>
                <a:latin typeface="Verdana"/>
              </a:rPr>
              <a:t>3. FileMaker Gateway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5181480"/>
            <a:ext cx="838188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3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Server monitoring software can automatically stop server access with the gatewa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51360" y="3016080"/>
            <a:ext cx="480060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3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Manage server changes and locatio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2819520"/>
            <a:ext cx="762120" cy="6094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28480" y="1752480"/>
            <a:ext cx="3721320" cy="3048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949560" y="3016080"/>
            <a:ext cx="4800600" cy="13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3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Inform users of server outages, maintenance, and other activiti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998440"/>
            <a:ext cx="777240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0f"/>
                </a:solidFill>
                <a:latin typeface="Verdana"/>
              </a:rPr>
              <a:t>Part IV: Why RAM Disks Are Faster</a:t>
            </a:r>
            <a:endParaRPr b="0" lang="en-US" sz="26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5800" y="4572000"/>
            <a:ext cx="777240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bbbb"/>
                </a:solidFill>
                <a:latin typeface="Verdana"/>
              </a:rPr>
              <a:t>The Real Scoop Behind RAM Disk and FileMaker</a:t>
            </a:r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Solid State Technology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019920" cy="30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No moving parts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No latency due to mechincal parts (i.e. r/w heads, platters, etc)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Access time is equal to RAM access time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RAM Disks are connected directly to the CPU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1066680"/>
            <a:ext cx="8458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bbbbbb"/>
                </a:solidFill>
                <a:latin typeface="Verdana"/>
              </a:rPr>
              <a:t>RAM Disk Theory Revisited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457200" y="2286000"/>
            <a:ext cx="1625760" cy="1625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How FileMaker Works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464832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User sends request to FileMaker Server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FM Server loads data from HD to RAM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FM Server sends data from RAM to Users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1066680"/>
            <a:ext cx="8458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bbbbbb"/>
                </a:solidFill>
                <a:latin typeface="Verdana"/>
              </a:rPr>
              <a:t>The Hard Disk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372280" cy="18036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384000" y="3809880"/>
            <a:ext cx="2853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zzZzzz. Very sl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372280" cy="18036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How FileMaker Works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464832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User sends request to FileMaker Server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FM Server loads data from RAM Disk to RAM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FM Server sends data from RAM to Users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1066680"/>
            <a:ext cx="8458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bbbbbb"/>
                </a:solidFill>
                <a:latin typeface="Verdana"/>
              </a:rPr>
              <a:t>RAM Disk, So What?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40800" y="3809880"/>
            <a:ext cx="28494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oosh! Very fas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809880" y="193032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How FileMaker Works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2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No data is retrieved directly from the disk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Data is copied to the Cache prior to use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Cache is flushed to disk reguarly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Cache is only effective on repetitive data access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Hard disks are slow: 10ms+ access time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RAM is fast: 0.01ms+ (10ns+) access time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RAM is 1000 times faster!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bbbbb"/>
                </a:solidFill>
                <a:latin typeface="Verdana"/>
              </a:rPr>
              <a:t>So, where’s the Bottleneck?</a:t>
            </a:r>
            <a:endParaRPr b="0" lang="en-US" sz="2400" spc="-1" strike="noStrike">
              <a:solidFill>
                <a:srgbClr val="bbbbbb"/>
              </a:solidFill>
              <a:latin typeface="Verdana"/>
            </a:endParaRPr>
          </a:p>
          <a:p>
            <a:pPr marL="3430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bbbb"/>
                </a:solidFill>
                <a:latin typeface="Verdana"/>
              </a:rPr>
              <a:t>It’s the Hard Drive, Dummie!</a:t>
            </a:r>
            <a:endParaRPr b="0" lang="en-US" sz="24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1066680"/>
            <a:ext cx="8458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bbbbbb"/>
                </a:solidFill>
                <a:latin typeface="Verdana"/>
              </a:rPr>
              <a:t>Where’s the Bottleneck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998440"/>
            <a:ext cx="777240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0f"/>
                </a:solidFill>
                <a:latin typeface="Verdana"/>
              </a:rPr>
              <a:t>Part V: The Cost of the RAM Disk</a:t>
            </a:r>
            <a:endParaRPr b="0" lang="en-US" sz="26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85800" y="4572000"/>
            <a:ext cx="777240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bbbb"/>
                </a:solidFill>
                <a:latin typeface="Verdana"/>
              </a:rPr>
              <a:t>Episode V: The Hard Drive Strikes Back</a:t>
            </a:r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The Cost of the RAM Disk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90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Expensive: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bbbb"/>
                </a:solidFill>
                <a:latin typeface="Verdana"/>
              </a:rPr>
              <a:t>RAM costs an additional $2-$4 per MB</a:t>
            </a:r>
            <a:br>
              <a:rPr sz="2000"/>
            </a:br>
            <a:r>
              <a:rPr b="0" lang="en-US" sz="2000" spc="-1" strike="noStrike">
                <a:solidFill>
                  <a:srgbClr val="bbbbbb"/>
                </a:solidFill>
                <a:latin typeface="Verdana"/>
              </a:rPr>
              <a:t>Hard Drives cost $0.10-$0.20 per MB</a:t>
            </a:r>
            <a:endParaRPr b="0" lang="en-US" sz="20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bbbb"/>
                </a:solidFill>
                <a:latin typeface="Verdana"/>
              </a:rPr>
              <a:t>Hard Drives are still required</a:t>
            </a:r>
            <a:endParaRPr b="0" lang="en-US" sz="2000" spc="-1" strike="noStrike">
              <a:solidFill>
                <a:srgbClr val="bbbbbb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bbbbb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Limited Size and Expandability: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bbbb"/>
                </a:solidFill>
                <a:latin typeface="Verdana"/>
              </a:rPr>
              <a:t>RAM is limited by operating system and hardware</a:t>
            </a:r>
            <a:endParaRPr b="0" lang="en-US" sz="20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bbbb"/>
                </a:solidFill>
                <a:latin typeface="Verdana"/>
              </a:rPr>
              <a:t>RAM must be replaced, not supplemented</a:t>
            </a:r>
            <a:endParaRPr b="0" lang="en-US" sz="2000" spc="-1" strike="noStrike">
              <a:solidFill>
                <a:srgbClr val="bbbbbb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bbbbb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Data Loss due to Power Failure: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bbbb"/>
                </a:solidFill>
                <a:latin typeface="Verdana"/>
              </a:rPr>
              <a:t>RAM is a volatile medium</a:t>
            </a:r>
            <a:endParaRPr b="0" lang="en-US" sz="20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bbbb"/>
                </a:solidFill>
                <a:latin typeface="Verdana"/>
              </a:rPr>
              <a:t>Cannot survive a power failure</a:t>
            </a:r>
            <a:endParaRPr b="0" lang="en-US" sz="2000" spc="-1" strike="noStrike">
              <a:solidFill>
                <a:srgbClr val="bbbbbb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1066680"/>
            <a:ext cx="8458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bbbbbb"/>
                </a:solidFill>
                <a:latin typeface="Verdana"/>
              </a:rPr>
              <a:t>Disadvantages of the RAM Disk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998440"/>
            <a:ext cx="777240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0f"/>
                </a:solidFill>
                <a:latin typeface="Verdana"/>
              </a:rPr>
              <a:t>Part VI: The RAM Disk Advantage II</a:t>
            </a:r>
            <a:endParaRPr b="0" lang="en-US" sz="26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85800" y="4572000"/>
            <a:ext cx="777240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bbbb"/>
                </a:solidFill>
                <a:latin typeface="Verdana"/>
              </a:rPr>
              <a:t>Episode VI: Return of the RAM Disk</a:t>
            </a:r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275760"/>
            <a:ext cx="4038480" cy="95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Who is </a:t>
            </a:r>
            <a:br>
              <a:rPr sz="2800"/>
            </a:b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Michael A. Scott?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62520" y="228240"/>
            <a:ext cx="4952880" cy="602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10 Years in Construction, Superintendent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Registered Civil Engineer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Senior Transportation _x0008_Engineer--8 years at CalTrans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FileMaker Solutions Alliance Member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FileMaker Developer since 1992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Workplan Status:        1999 Outstanding FileMaker Pro Enterprise Solution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28670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The RAM Disk Advantage II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Expensive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Cost per MB is high; cost for performance is low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Limited Size and Expandability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Files should be spread among multiple servers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Data Loss due to Power Failure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Hybrid RAM/Hard Drives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Increase backup frequency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066680"/>
            <a:ext cx="8458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bbbbbb"/>
                </a:solidFill>
                <a:latin typeface="Verdana"/>
              </a:rPr>
              <a:t>The Real Cost of the RAM Disk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The RAM Disk Advantage II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362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High Cost for Storage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RAM is an expensive storage medium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Cannot compare with long-term storage (Hard Drives)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Low Cost for Performance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$1,800 for additional 768MB RAM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$470 for an an additional 133MHz</a:t>
            </a:r>
            <a:br>
              <a:rPr sz="2200"/>
            </a:b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(upgrade from 733MHz to 866MHz Pentium III)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1066680"/>
            <a:ext cx="8458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bbbbbb"/>
                </a:solidFill>
                <a:latin typeface="Verdana"/>
              </a:rPr>
              <a:t>RAM is not expensiv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The RAM Disk Advantage II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066680"/>
            <a:ext cx="8458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bbbbbb"/>
                </a:solidFill>
                <a:latin typeface="Verdana"/>
              </a:rPr>
              <a:t>The True Cost of RAM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895480" y="1676520"/>
          <a:ext cx="3395880" cy="39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676520"/>
                    <a:ext cx="339588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The RAM Disk Advantage II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560" y="5638680"/>
            <a:ext cx="8458200" cy="4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RAM is Cheap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1066680"/>
            <a:ext cx="8458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bbbbbb"/>
                </a:solidFill>
                <a:latin typeface="Verdana"/>
              </a:rPr>
              <a:t>The True Cost of RAM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5029200" y="1604880"/>
          <a:ext cx="3384720" cy="390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604880"/>
                    <a:ext cx="3384720" cy="39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914400" y="1600200"/>
          <a:ext cx="3395520" cy="3924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600200"/>
                    <a:ext cx="339552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The RAM Disk Advantage II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29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Why size does matter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Hardware and operating system limitations will determine maximum RAM Disk size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Why size doesn’t matter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Files should be broken down into smaller files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Files should be divided among servers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Not all files need to reside on the RAM Disk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1066680"/>
            <a:ext cx="8458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bbbbbb"/>
                </a:solidFill>
                <a:latin typeface="Verdana"/>
              </a:rPr>
              <a:t>Limited Size and Expandability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The RAM Disk Advantage II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29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Hybrid RAM/HD Drives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Data is read directly from RAM. (Fast)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Data is written to RAM and HD simultaneously. (Slow)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Files can be recovered in the traditional manner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Data loss is inevitable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Data loss is the same as using just a Hard Drive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bbbb"/>
                </a:solidFill>
                <a:latin typeface="Verdana"/>
              </a:rPr>
              <a:t>Recovery times can be improved by using a RAM Disk</a:t>
            </a:r>
            <a:endParaRPr b="0" lang="en-US" sz="24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1066680"/>
            <a:ext cx="8458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bbbbbb"/>
                </a:solidFill>
                <a:latin typeface="Verdana"/>
              </a:rPr>
              <a:t>Ha, Ha. Power Failures Don’t Hurt Me, Mortal!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The RAM Disk Advantage II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1066680"/>
            <a:ext cx="8458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bbbbbb"/>
                </a:solidFill>
                <a:latin typeface="Verdana"/>
              </a:rPr>
              <a:t>Recovery Timetable using Hard Drive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483760" cy="2070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520" y="4191120"/>
            <a:ext cx="8458200" cy="111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Data loss is inevitable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Frequent backups are impossible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Majority of downtime is due to recovery process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The RAM Disk Advantage II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38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Hybrid RAM/HD Drives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Data is read directly from RAM. (Fast)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Data is written to RAM and HD simultaneously. (Slow)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Files can be recovered in the traditional manner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Data loss is inevitable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Data loss is the same as using just a Hard Drive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Recovery times can be improved by using a RAM Disk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Copy files to a RAM Disk, and perform Recover command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Copy files back to the Hybrid Drive for normal operation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200% +/- Performance Increase over Hard Drive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1066680"/>
            <a:ext cx="8458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bbbbbb"/>
                </a:solidFill>
                <a:latin typeface="Verdana"/>
              </a:rPr>
              <a:t>Ha, Ha. Power Failures Don’t Hurt Me, Mortal!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The RAM Disk Advantage II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31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Pure RAM Disks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No Recovery is Necessary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Files are available from most recent backup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Files are immediately usable without recovery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Frequent Backups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Backups are faster--from 5 minutes to 30 seconds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Increased frequency of backups minimizes data loss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Reduced downtime for users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1066680"/>
            <a:ext cx="8458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bbbbbb"/>
                </a:solidFill>
                <a:latin typeface="Verdana"/>
              </a:rPr>
              <a:t>Power Failures + RAM Disk = Cryptonite?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38080" cy="83844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The RAM Disk Advantage II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7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Backups can be grouped using sub-folders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bbbb"/>
                </a:solidFill>
                <a:latin typeface="Verdana"/>
              </a:rPr>
              <a:t>Static Files</a:t>
            </a:r>
            <a:endParaRPr b="0" lang="en-US" sz="20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bbbb"/>
                </a:solidFill>
                <a:latin typeface="Verdana"/>
              </a:rPr>
              <a:t>Files that are not changed during the day</a:t>
            </a:r>
            <a:endParaRPr b="0" lang="en-US" sz="20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bbbb"/>
                </a:solidFill>
                <a:latin typeface="Verdana"/>
              </a:rPr>
              <a:t>Can be backed up 1-2 times a day</a:t>
            </a:r>
            <a:endParaRPr b="0" lang="en-US" sz="20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bbbb"/>
                </a:solidFill>
                <a:latin typeface="Verdana"/>
              </a:rPr>
              <a:t>Semi-Volatile Files</a:t>
            </a:r>
            <a:endParaRPr b="0" lang="en-US" sz="20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bbbb"/>
                </a:solidFill>
                <a:latin typeface="Verdana"/>
              </a:rPr>
              <a:t>Files that are occasionally changed during the day</a:t>
            </a:r>
            <a:endParaRPr b="0" lang="en-US" sz="20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bbbb"/>
                </a:solidFill>
                <a:latin typeface="Verdana"/>
              </a:rPr>
              <a:t>Can be backed up every 1-2 hours</a:t>
            </a:r>
            <a:endParaRPr b="0" lang="en-US" sz="20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bbbb"/>
                </a:solidFill>
                <a:latin typeface="Verdana"/>
              </a:rPr>
              <a:t>Volatile Files</a:t>
            </a:r>
            <a:endParaRPr b="0" lang="en-US" sz="20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bbbb"/>
                </a:solidFill>
                <a:latin typeface="Verdana"/>
              </a:rPr>
              <a:t>Files that are constantly changed.</a:t>
            </a:r>
            <a:endParaRPr b="0" lang="en-US" sz="20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bbbb"/>
                </a:solidFill>
                <a:latin typeface="Verdana"/>
              </a:rPr>
              <a:t>Can be backed up every 5-10 minutes</a:t>
            </a:r>
            <a:endParaRPr b="0" lang="en-US" sz="20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bbbbbb"/>
                </a:solidFill>
                <a:latin typeface="Verdana"/>
              </a:rPr>
              <a:t>Related” Files</a:t>
            </a:r>
            <a:endParaRPr b="0" lang="en-US" sz="20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bbbb"/>
                </a:solidFill>
                <a:latin typeface="Verdana"/>
              </a:rPr>
              <a:t>Files that must stay synchronized at all times</a:t>
            </a:r>
            <a:endParaRPr b="0" lang="en-US" sz="20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bbbb"/>
                </a:solidFill>
                <a:latin typeface="Verdana"/>
              </a:rPr>
              <a:t>Can be backed together, independent of other backups</a:t>
            </a:r>
            <a:endParaRPr b="0" lang="en-US" sz="20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1066680"/>
            <a:ext cx="8458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bbbbbb"/>
                </a:solidFill>
                <a:latin typeface="Verdana"/>
              </a:rPr>
              <a:t>Prioritize Your Backup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441360"/>
            <a:ext cx="845820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Arial"/>
              </a:rPr>
              <a:t>RAM Disk Case Study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4582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bbbbb"/>
                </a:solidFill>
                <a:latin typeface="Verdana"/>
              </a:rPr>
              <a:t>California Department of Transportation</a:t>
            </a:r>
            <a:endParaRPr b="0" lang="en-US" sz="2400" spc="-1" strike="noStrike">
              <a:solidFill>
                <a:srgbClr val="bbbbbb"/>
              </a:solidFill>
              <a:latin typeface="Verdan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80880" y="1447920"/>
          <a:ext cx="247032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247032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438280" y="1600200"/>
            <a:ext cx="632484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12 Districts consisting of 20,000 employee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58 Counties and 15,000 miles of Highway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Over 10,000 Project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$5 Billion Budget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The RAM Disk Advantage II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4114440"/>
            <a:ext cx="8458200" cy="17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bbbb"/>
                </a:solidFill>
                <a:latin typeface="Verdana"/>
              </a:rPr>
              <a:t>Response Time is Essential</a:t>
            </a:r>
            <a:endParaRPr b="0" lang="en-US" sz="24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bbbb"/>
                </a:solidFill>
                <a:latin typeface="Verdana"/>
              </a:rPr>
              <a:t>RAM Disks require no recovery time</a:t>
            </a:r>
            <a:endParaRPr b="0" lang="en-US" sz="20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bbbb"/>
                </a:solidFill>
                <a:latin typeface="Verdana"/>
              </a:rPr>
              <a:t>Restoring RAM Disk backups takes less than 5 minutes</a:t>
            </a:r>
            <a:endParaRPr b="0" lang="en-US" sz="20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bbbb"/>
                </a:solidFill>
                <a:latin typeface="Verdana"/>
              </a:rPr>
              <a:t>Response time of administrator will determine downtime</a:t>
            </a:r>
            <a:endParaRPr b="0" lang="en-US" sz="20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bbbb"/>
                </a:solidFill>
                <a:latin typeface="Verdana"/>
              </a:rPr>
              <a:t>Faster response time = less down time</a:t>
            </a:r>
            <a:endParaRPr b="0" lang="en-US" sz="20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1066680"/>
            <a:ext cx="8458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bbbbbb"/>
                </a:solidFill>
                <a:latin typeface="Verdana"/>
              </a:rPr>
              <a:t>Faster Than a Speeding Bullet..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49636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244476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bbbb"/>
                </a:solidFill>
                <a:latin typeface="Verdana"/>
              </a:rPr>
              <a:t>Beyond TEC 3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79828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0f"/>
                </a:solidFill>
                <a:latin typeface="Verdana"/>
              </a:rPr>
              <a:t>RAM Disks</a:t>
            </a:r>
            <a:br>
              <a:rPr sz="2600"/>
            </a:br>
            <a:r>
              <a:rPr b="0" lang="en-US" sz="2600" spc="-1" strike="noStrike">
                <a:solidFill>
                  <a:srgbClr val="cccc0f"/>
                </a:solidFill>
                <a:latin typeface="Verdana"/>
              </a:rPr>
              <a:t>Extending the Features of the RAM Disk</a:t>
            </a:r>
            <a:endParaRPr b="0" lang="en-US" sz="26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4572000"/>
            <a:ext cx="777240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bbbb"/>
                </a:solidFill>
                <a:latin typeface="Verdana"/>
              </a:rPr>
              <a:t>The Logical Extensions of RAM Disk Technology</a:t>
            </a:r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Recovery Automation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202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Typical Problems with the Recovery Process: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Human Error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Incorrect files being recovered or restored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Time consuming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Requires trained staff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657600" y="3962520"/>
            <a:ext cx="1828800" cy="1828800"/>
            <a:chOff x="3657600" y="3962520"/>
            <a:chExt cx="1828800" cy="1828800"/>
          </a:xfrm>
        </p:grpSpPr>
        <p:sp>
          <p:nvSpPr>
            <p:cNvPr id="239" name=""/>
            <p:cNvSpPr/>
            <p:nvPr/>
          </p:nvSpPr>
          <p:spPr>
            <a:xfrm>
              <a:off x="3657600" y="3962520"/>
              <a:ext cx="1828800" cy="1828800"/>
            </a:xfrm>
            <a:prstGeom prst="ellipse">
              <a:avLst/>
            </a:prstGeom>
            <a:solidFill>
              <a:srgbClr val="fafd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14800" y="44956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800600" y="44956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4115160" y="5106240"/>
              <a:ext cx="914040" cy="608760"/>
              <a:chOff x="4115160" y="5106240"/>
              <a:chExt cx="914040" cy="608760"/>
            </a:xfrm>
          </p:grpSpPr>
          <p:sp>
            <p:nvSpPr>
              <p:cNvPr id="243" name=""/>
              <p:cNvSpPr/>
              <p:nvPr/>
            </p:nvSpPr>
            <p:spPr>
              <a:xfrm flipV="1" rot="10800000">
                <a:off x="4115160" y="5105880"/>
                <a:ext cx="913680" cy="60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 flipV="1" rot="10800000">
                <a:off x="4115520" y="5105880"/>
                <a:ext cx="913680" cy="60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Recovery Automation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240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Using AppleScript to Automate Recovery Process: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Copies latest backup to a server folder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Creates empty RAM Disk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Copies files to RAM Disk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Launch FileMaker Server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Can be fully automated, or routinized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Recovery Automation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implified AppleScript: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display dialog "Would you like to recover the server?" buttons {"Yes", "No"}</a:t>
            </a:r>
            <a:endParaRPr b="0" lang="en-US" sz="1600" spc="-1" strike="noStrike">
              <a:solidFill>
                <a:srgbClr val="bbbbbb"/>
              </a:solidFill>
              <a:latin typeface="Verdan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133720" y="4114800"/>
            <a:ext cx="4622760" cy="12826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04920" y="2247840"/>
            <a:ext cx="84582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 button returned </a:t>
            </a: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of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 result </a:t>
            </a: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is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 "Yes" </a:t>
            </a: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th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tell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 application "Finder" </a:t>
            </a: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to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copy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 folder "Backup" </a:t>
            </a: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to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 folder "Temp Server"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tell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 application ”ramBunctious" </a:t>
            </a: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to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 open file "RAM Disk Settings"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tell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 application "Finder" </a:t>
            </a: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to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copy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 folder "Temp Server" </a:t>
            </a: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to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 disk "RAM Disk"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tell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 application "Finder" </a:t>
            </a: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to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 open file "FileMaker Server"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end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i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Recovery Automation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202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Benefits of Automation: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A “Trained Monkey” can perform the recovery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Requires little or no user interaction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Entire shutdown process is automated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Decreases time required to perform backup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657600" y="4114800"/>
            <a:ext cx="1828800" cy="1828800"/>
            <a:chOff x="3657600" y="4114800"/>
            <a:chExt cx="1828800" cy="1828800"/>
          </a:xfrm>
        </p:grpSpPr>
        <p:sp>
          <p:nvSpPr>
            <p:cNvPr id="254" name=""/>
            <p:cNvSpPr/>
            <p:nvPr/>
          </p:nvSpPr>
          <p:spPr>
            <a:xfrm>
              <a:off x="3657600" y="4114800"/>
              <a:ext cx="1828800" cy="1828800"/>
            </a:xfrm>
            <a:prstGeom prst="ellipse">
              <a:avLst/>
            </a:prstGeom>
            <a:solidFill>
              <a:srgbClr val="fafd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14800" y="4647960"/>
              <a:ext cx="22860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00600" y="4647960"/>
              <a:ext cx="22860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4115160" y="4952880"/>
              <a:ext cx="914040" cy="608760"/>
              <a:chOff x="4115160" y="4952880"/>
              <a:chExt cx="914040" cy="608760"/>
            </a:xfrm>
          </p:grpSpPr>
          <p:sp>
            <p:nvSpPr>
              <p:cNvPr id="258" name=""/>
              <p:cNvSpPr/>
              <p:nvPr/>
            </p:nvSpPr>
            <p:spPr>
              <a:xfrm rot="10800000">
                <a:off x="4115160" y="4952880"/>
                <a:ext cx="913680" cy="60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rot="10800000">
                <a:off x="4115520" y="4952880"/>
                <a:ext cx="913680" cy="60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Shutdown &amp; Maintenance Automation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240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Typical Problems with the Maintenance Process: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Human Error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Incorrect files being put online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Files get lost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Time consuming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Requires trained staff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657600" y="4114800"/>
            <a:ext cx="1828800" cy="1828800"/>
            <a:chOff x="3657600" y="4114800"/>
            <a:chExt cx="1828800" cy="1828800"/>
          </a:xfrm>
        </p:grpSpPr>
        <p:sp>
          <p:nvSpPr>
            <p:cNvPr id="263" name=""/>
            <p:cNvSpPr/>
            <p:nvPr/>
          </p:nvSpPr>
          <p:spPr>
            <a:xfrm>
              <a:off x="3657600" y="4114800"/>
              <a:ext cx="1828800" cy="1828800"/>
            </a:xfrm>
            <a:prstGeom prst="ellipse">
              <a:avLst/>
            </a:prstGeom>
            <a:solidFill>
              <a:srgbClr val="fafd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14800" y="4647960"/>
              <a:ext cx="22860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800600" y="4647960"/>
              <a:ext cx="22860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4115160" y="5258520"/>
              <a:ext cx="914040" cy="608760"/>
              <a:chOff x="4115160" y="5258520"/>
              <a:chExt cx="914040" cy="608760"/>
            </a:xfrm>
          </p:grpSpPr>
          <p:sp>
            <p:nvSpPr>
              <p:cNvPr id="267" name=""/>
              <p:cNvSpPr/>
              <p:nvPr/>
            </p:nvSpPr>
            <p:spPr>
              <a:xfrm flipV="1" rot="10800000">
                <a:off x="4115160" y="5258160"/>
                <a:ext cx="913680" cy="60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flipV="1" rot="10800000">
                <a:off x="4115520" y="5258160"/>
                <a:ext cx="913680" cy="60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Shutdown &amp; Maintenance Automation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35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Using AppleScript to Automate Shutdown &amp; Maintenance Process: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Runs a Final Backup in case of crash at shutdown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Quits FileMaker Server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Copies RAM Disk to Hard Disk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Restarts Computer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Creates an empty RAM Disk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Copies files to RAM Disk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Launches FileMaker Server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Shutdown &amp; Maintenance Automation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implified AppleScript: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tell application “FileMaker Server”</a:t>
            </a:r>
            <a:endParaRPr b="0" lang="en-US" sz="16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2247840"/>
            <a:ext cx="8458200" cy="32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run schedule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 {“Final Backup”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delay 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1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force quit message 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“Server is going offline for maintenenace.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end te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tell application “Finder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copy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 every file of disk “RAM Disk” to folder “Temp Server” of disk “MacHD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resta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end te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tell application “Finder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copy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 every file of folder “Temp Server” of disk “MacHD” to disk “RAM Disk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open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 file “FileMaker Server” of disk “RAM Disk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end te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Shutdown &amp; Maintenance Automation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279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Benefits of Automation: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A “Trained Monkey” can perform the maintenance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Requires little or no user interaction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Entire shutdown and maintenance process is automated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Decreases time required to perform shutdown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581280" y="4419720"/>
            <a:ext cx="1828800" cy="1828800"/>
            <a:chOff x="3581280" y="4419720"/>
            <a:chExt cx="1828800" cy="1828800"/>
          </a:xfrm>
        </p:grpSpPr>
        <p:sp>
          <p:nvSpPr>
            <p:cNvPr id="277" name=""/>
            <p:cNvSpPr/>
            <p:nvPr/>
          </p:nvSpPr>
          <p:spPr>
            <a:xfrm>
              <a:off x="3581280" y="4419720"/>
              <a:ext cx="1828800" cy="1828800"/>
            </a:xfrm>
            <a:prstGeom prst="ellipse">
              <a:avLst/>
            </a:prstGeom>
            <a:solidFill>
              <a:srgbClr val="fafd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38480" y="49528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24280" y="49528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4038840" y="5257800"/>
              <a:ext cx="914040" cy="608760"/>
              <a:chOff x="4038840" y="5257800"/>
              <a:chExt cx="914040" cy="608760"/>
            </a:xfrm>
          </p:grpSpPr>
          <p:sp>
            <p:nvSpPr>
              <p:cNvPr id="281" name=""/>
              <p:cNvSpPr/>
              <p:nvPr/>
            </p:nvSpPr>
            <p:spPr>
              <a:xfrm rot="10800000">
                <a:off x="4038840" y="5257800"/>
                <a:ext cx="913680" cy="60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 rot="10800000">
                <a:off x="4039200" y="5257800"/>
                <a:ext cx="913680" cy="60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41360"/>
            <a:ext cx="845820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Arial"/>
              </a:rPr>
              <a:t>RAM Disk Case Study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4582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bbbbb"/>
                </a:solidFill>
                <a:latin typeface="Verdana"/>
              </a:rPr>
              <a:t>The Workplan Status</a:t>
            </a:r>
            <a:endParaRPr b="0" lang="en-US" sz="2400" spc="-1" strike="noStrike">
              <a:solidFill>
                <a:srgbClr val="bbbbbb"/>
              </a:solidFill>
              <a:latin typeface="Verdan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80880" y="1447920"/>
          <a:ext cx="247032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247032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438280" y="1600200"/>
            <a:ext cx="63248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bbbb"/>
                </a:solidFill>
                <a:latin typeface="Verdana"/>
              </a:rPr>
              <a:t>Combines multiple data sources into one t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bbbb"/>
                </a:solidFill>
                <a:latin typeface="Verdana"/>
              </a:rPr>
              <a:t>Used by Project Managers, Engineers, Designers, Construction, Corporate, and other us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bbbb"/>
                </a:solidFill>
                <a:latin typeface="Verdana"/>
              </a:rPr>
              <a:t>Serves as a front end for corporate and legacy datab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bbbb"/>
                </a:solidFill>
                <a:latin typeface="Verdana"/>
              </a:rPr>
              <a:t>Designed from the bottoms up 2 years a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bbbb"/>
                </a:solidFill>
                <a:latin typeface="Verdana"/>
              </a:rPr>
              <a:t>RAM Disk has been used in the North Region since October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Updating Files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33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The Old Way of Updating (</a:t>
            </a:r>
            <a:r>
              <a:rPr b="0" i="1" lang="en-US" sz="2500" spc="-1" strike="noStrike">
                <a:solidFill>
                  <a:srgbClr val="bbbbbb"/>
                </a:solidFill>
                <a:latin typeface="Verdana"/>
              </a:rPr>
              <a:t>The Dark Side</a:t>
            </a: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)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Business Hours Updating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bbbb"/>
                </a:solidFill>
                <a:latin typeface="Verdana"/>
              </a:rPr>
              <a:t>Disconnect users and close file</a:t>
            </a:r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bbbb"/>
                </a:solidFill>
                <a:latin typeface="Verdana"/>
              </a:rPr>
              <a:t>Copy new file to server, put file online</a:t>
            </a:r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bbbb"/>
                </a:solidFill>
                <a:latin typeface="Verdana"/>
              </a:rPr>
              <a:t>Difficult to inform users of file update</a:t>
            </a:r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bbbb"/>
                </a:solidFill>
                <a:latin typeface="Verdana"/>
              </a:rPr>
              <a:t>Risk of crashing server</a:t>
            </a:r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After Hours Updating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bbbb"/>
                </a:solidFill>
                <a:latin typeface="Verdana"/>
              </a:rPr>
              <a:t>Ouch!!</a:t>
            </a:r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657600" y="4419720"/>
            <a:ext cx="1828800" cy="1828800"/>
            <a:chOff x="3657600" y="4419720"/>
            <a:chExt cx="1828800" cy="1828800"/>
          </a:xfrm>
        </p:grpSpPr>
        <p:sp>
          <p:nvSpPr>
            <p:cNvPr id="286" name=""/>
            <p:cNvSpPr/>
            <p:nvPr/>
          </p:nvSpPr>
          <p:spPr>
            <a:xfrm>
              <a:off x="3657600" y="4419720"/>
              <a:ext cx="1828800" cy="1828800"/>
            </a:xfrm>
            <a:prstGeom prst="ellipse">
              <a:avLst/>
            </a:prstGeom>
            <a:solidFill>
              <a:srgbClr val="fafd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14800" y="49528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00600" y="49528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4115160" y="5563440"/>
              <a:ext cx="914040" cy="608760"/>
              <a:chOff x="4115160" y="5563440"/>
              <a:chExt cx="914040" cy="608760"/>
            </a:xfrm>
          </p:grpSpPr>
          <p:sp>
            <p:nvSpPr>
              <p:cNvPr id="290" name=""/>
              <p:cNvSpPr/>
              <p:nvPr/>
            </p:nvSpPr>
            <p:spPr>
              <a:xfrm flipV="1" rot="10800000">
                <a:off x="4115160" y="5563080"/>
                <a:ext cx="913680" cy="60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 flipV="1" rot="10800000">
                <a:off x="4115520" y="5563080"/>
                <a:ext cx="913680" cy="60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560" y="223920"/>
            <a:ext cx="8458200" cy="95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Updating Files</a:t>
            </a:r>
            <a:br>
              <a:rPr sz="2800"/>
            </a:br>
            <a:r>
              <a:rPr b="0" i="1" lang="en-US" sz="2800" spc="-1" strike="noStrike">
                <a:solidFill>
                  <a:srgbClr val="cccc0f"/>
                </a:solidFill>
                <a:latin typeface="Verdana"/>
              </a:rPr>
              <a:t>(Drop Boxes)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16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How Does it Work?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Connects to drop boxes folder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Copies files to server folder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Continues with Shutdown Script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Shutdown &amp; Maintenance Automation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implified AppleScript: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tell application “Finder”</a:t>
            </a:r>
            <a:endParaRPr b="0" lang="en-US" sz="16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247840"/>
            <a:ext cx="84582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mount volume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 “Drop Boxes” </a:t>
            </a: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on server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 “My File Server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copy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 every disk “Drop Boxes” to folder “Temp Server” of disk “MacHD” to disk “RAM Disk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put away</a:t>
            </a:r>
            <a:r>
              <a:rPr b="0" lang="en-US" sz="1600" spc="-1" strike="noStrike">
                <a:solidFill>
                  <a:srgbClr val="ffffff"/>
                </a:solidFill>
                <a:latin typeface="Geneva"/>
              </a:rPr>
              <a:t> disk “Drop Boxe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end te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Shutdown &amp; Maintenance Automation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202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Using </a:t>
            </a:r>
            <a:r>
              <a:rPr b="0" i="1" lang="en-US" sz="2500" spc="-1" strike="noStrike">
                <a:solidFill>
                  <a:srgbClr val="bbbbbb"/>
                </a:solidFill>
                <a:latin typeface="Verdana"/>
              </a:rPr>
              <a:t>The Force</a:t>
            </a: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 to Automate Updates: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Simple addition to the Shutdown script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Zero additional down time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No more late nights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Reduces peak load on File Servers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3581280" y="4419720"/>
            <a:ext cx="1828800" cy="1828800"/>
            <a:chOff x="3581280" y="4419720"/>
            <a:chExt cx="1828800" cy="1828800"/>
          </a:xfrm>
        </p:grpSpPr>
        <p:sp>
          <p:nvSpPr>
            <p:cNvPr id="300" name=""/>
            <p:cNvSpPr/>
            <p:nvPr/>
          </p:nvSpPr>
          <p:spPr>
            <a:xfrm>
              <a:off x="3581280" y="4419720"/>
              <a:ext cx="1828800" cy="1828800"/>
            </a:xfrm>
            <a:prstGeom prst="ellipse">
              <a:avLst/>
            </a:prstGeom>
            <a:solidFill>
              <a:srgbClr val="fafd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038480" y="49528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724280" y="49528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4038840" y="5257800"/>
              <a:ext cx="914040" cy="608760"/>
              <a:chOff x="4038840" y="5257800"/>
              <a:chExt cx="914040" cy="608760"/>
            </a:xfrm>
          </p:grpSpPr>
          <p:sp>
            <p:nvSpPr>
              <p:cNvPr id="304" name=""/>
              <p:cNvSpPr/>
              <p:nvPr/>
            </p:nvSpPr>
            <p:spPr>
              <a:xfrm rot="10800000">
                <a:off x="4038840" y="5257800"/>
                <a:ext cx="913680" cy="60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rot="10800000">
                <a:off x="4039200" y="5257800"/>
                <a:ext cx="913680" cy="60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85800" y="244476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bbbb"/>
                </a:solidFill>
                <a:latin typeface="Verdana"/>
              </a:rPr>
              <a:t>Beyond TEC 3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79828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0f"/>
                </a:solidFill>
                <a:latin typeface="Verdana"/>
              </a:rPr>
              <a:t>RAM Disks</a:t>
            </a:r>
            <a:br>
              <a:rPr sz="2600"/>
            </a:br>
            <a:r>
              <a:rPr b="0" lang="en-US" sz="2600" spc="-1" strike="noStrike">
                <a:solidFill>
                  <a:srgbClr val="cccc0f"/>
                </a:solidFill>
                <a:latin typeface="Verdana"/>
              </a:rPr>
              <a:t>The “Total” Package Revisited</a:t>
            </a:r>
            <a:endParaRPr b="0" lang="en-US" sz="26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4572000"/>
            <a:ext cx="777240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bbbb"/>
                </a:solidFill>
                <a:latin typeface="Verdana"/>
              </a:rPr>
              <a:t>Telepathy and E.S.P</a:t>
            </a:r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The RAM Disk “Total” Package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1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FileMaker Gateway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bbbb"/>
                </a:solidFill>
                <a:latin typeface="Verdana"/>
              </a:rPr>
              <a:t>Control user access</a:t>
            </a:r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bbbb"/>
                </a:solidFill>
                <a:latin typeface="Verdana"/>
              </a:rPr>
              <a:t>Central access point</a:t>
            </a:r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bbbb"/>
                </a:solidFill>
                <a:latin typeface="Verdana"/>
              </a:rPr>
              <a:t>Inform users of outages</a:t>
            </a:r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Access Key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bbbb"/>
                </a:solidFill>
                <a:latin typeface="Verdana"/>
              </a:rPr>
              <a:t>Single access point</a:t>
            </a:r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bbbb"/>
                </a:solidFill>
                <a:latin typeface="Verdana"/>
              </a:rPr>
              <a:t>Users need no IP Addresses</a:t>
            </a:r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Server Monitoring (WhistleBlower)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bbbb"/>
                </a:solidFill>
                <a:latin typeface="Verdana"/>
              </a:rPr>
              <a:t>Instant notification of outages</a:t>
            </a:r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bbbb"/>
                </a:solidFill>
                <a:latin typeface="Verdana"/>
              </a:rPr>
              <a:t>Multiple notification methods</a:t>
            </a:r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bbbb"/>
                </a:solidFill>
                <a:latin typeface="Verdana"/>
              </a:rPr>
              <a:t>Automated responses</a:t>
            </a:r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Remote Administration (Timbuktu)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bbbb"/>
                </a:solidFill>
                <a:latin typeface="Verdana"/>
              </a:rPr>
              <a:t>Remote restart and shutdown of servers</a:t>
            </a:r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bbbb"/>
                </a:solidFill>
                <a:latin typeface="Verdana"/>
              </a:rPr>
              <a:t>Minor maintenance, updates, and administration</a:t>
            </a:r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FileMaker Gateway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52960" cy="43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bbbbb"/>
                </a:solidFill>
                <a:latin typeface="Verdana"/>
              </a:rPr>
              <a:t>Control user access</a:t>
            </a:r>
            <a:endParaRPr b="0" lang="en-US" sz="21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bbbbb"/>
                </a:solidFill>
                <a:latin typeface="Verdana"/>
              </a:rPr>
              <a:t>Logical place to verify user identities</a:t>
            </a:r>
            <a:endParaRPr b="0" lang="en-US" sz="21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bbbbb"/>
                </a:solidFill>
                <a:latin typeface="Verdana"/>
              </a:rPr>
              <a:t>Prevent unauthorized users from accessing servers</a:t>
            </a:r>
            <a:endParaRPr b="0" lang="en-US" sz="21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bbbbb"/>
                </a:solidFill>
                <a:latin typeface="Verdana"/>
              </a:rPr>
              <a:t>Single access point for multiple servers</a:t>
            </a:r>
            <a:endParaRPr b="0" lang="en-US" sz="21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bbbbb"/>
                </a:solidFill>
                <a:latin typeface="Verdana"/>
              </a:rPr>
              <a:t>Inform users of server announcements, maintenance, and outages.</a:t>
            </a:r>
            <a:endParaRPr b="0" lang="en-US" sz="21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bbbbb"/>
                </a:solidFill>
                <a:latin typeface="Verdana"/>
              </a:rPr>
              <a:t>Hides servers from users</a:t>
            </a:r>
            <a:endParaRPr b="0" lang="en-US" sz="2100" spc="-1" strike="noStrike">
              <a:solidFill>
                <a:srgbClr val="bbbbbb"/>
              </a:solidFill>
              <a:latin typeface="Verdana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5562720" y="1066680"/>
            <a:ext cx="2743200" cy="1710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5562720" y="2819520"/>
            <a:ext cx="2743200" cy="14508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5562720" y="4343400"/>
            <a:ext cx="27432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FileMaker Gateway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549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bbbbbb"/>
                </a:solidFill>
                <a:latin typeface="Verdana"/>
              </a:rPr>
              <a:t>How do I make a FileMaker Gateway?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Gateway should be a separate server from your other database servers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Can be a “cheap” computer (little RAM, HD, and Processor Speed)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Can be either FileMaker client or FileMaker server (has minimal transactions and usage)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Consists of one to four databases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bbbb"/>
                </a:solidFill>
                <a:latin typeface="Verdana"/>
              </a:rPr>
              <a:t>Access Point (users open this database)</a:t>
            </a:r>
            <a:endParaRPr b="0" lang="en-US" sz="20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bbbb"/>
                </a:solidFill>
                <a:latin typeface="Verdana"/>
              </a:rPr>
              <a:t>User and password list (optional)</a:t>
            </a:r>
            <a:endParaRPr b="0" lang="en-US" sz="20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bbbb"/>
                </a:solidFill>
                <a:latin typeface="Verdana"/>
              </a:rPr>
              <a:t>Access Log (optional)</a:t>
            </a:r>
            <a:endParaRPr b="0" lang="en-US" sz="20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bbbb"/>
                </a:solidFill>
                <a:latin typeface="Verdana"/>
              </a:rPr>
              <a:t>Dynamic Server list (optional)</a:t>
            </a:r>
            <a:endParaRPr b="0" lang="en-US" sz="20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Can be either FileMaker client or FileMaker server (has minimal transactions and usage)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FileMaker Gateway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428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bbbbbb"/>
                </a:solidFill>
                <a:latin typeface="Verdana"/>
              </a:rPr>
              <a:t>Why should I use a Gateway?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No reliable method of informing users of server outages exists: email, telephone, and word-of-mouth is not guaranteed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Difficult to inform users why server is offline, and when it will be available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Impossible to determine if the server is offline, FileMaker misconfiguration, or a network problem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Difficult to notify users of IP Address change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Access Key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52960" cy="397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bbbbb"/>
                </a:solidFill>
                <a:latin typeface="Verdana"/>
              </a:rPr>
              <a:t>FileMaker Pro File</a:t>
            </a:r>
            <a:endParaRPr b="0" lang="en-US" sz="21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bbbbb"/>
                </a:solidFill>
                <a:latin typeface="Verdana"/>
              </a:rPr>
              <a:t>No more IP Addresses to distribute</a:t>
            </a:r>
            <a:endParaRPr b="0" lang="en-US" sz="21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bbbbb"/>
                </a:solidFill>
                <a:latin typeface="Verdana"/>
              </a:rPr>
              <a:t>Simplifies user experience</a:t>
            </a:r>
            <a:endParaRPr b="0" lang="en-US" sz="21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bbbbb"/>
                </a:solidFill>
                <a:latin typeface="Verdana"/>
              </a:rPr>
              <a:t>Control how the users access</a:t>
            </a:r>
            <a:endParaRPr b="0" lang="en-US" sz="21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bbbbb"/>
                </a:solidFill>
                <a:latin typeface="Verdana"/>
              </a:rPr>
              <a:t>Verifies user settings</a:t>
            </a:r>
            <a:endParaRPr b="0" lang="en-US" sz="21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bbbbb"/>
                </a:solidFill>
                <a:latin typeface="Verdana"/>
              </a:rPr>
              <a:t>Lets you “hide” servers from users</a:t>
            </a:r>
            <a:endParaRPr b="0" lang="en-US" sz="21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bbbbb"/>
                </a:solidFill>
                <a:latin typeface="Verdana"/>
              </a:rPr>
              <a:t>Works great with Gateway</a:t>
            </a:r>
            <a:endParaRPr b="0" lang="en-US" sz="21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bbbbb"/>
                </a:solidFill>
                <a:latin typeface="Verdana"/>
              </a:rPr>
              <a:t>Distribute from Web Site, E-Mail, etc.</a:t>
            </a:r>
            <a:endParaRPr b="0" lang="en-US" sz="2100" spc="-1" strike="noStrike">
              <a:solidFill>
                <a:srgbClr val="bbbbbb"/>
              </a:solidFill>
              <a:latin typeface="Verdana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5029200" y="1219320"/>
            <a:ext cx="3683160" cy="15364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5029200" y="2971800"/>
            <a:ext cx="368316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441360"/>
            <a:ext cx="845820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Arial"/>
              </a:rPr>
              <a:t>RAM Disk Case Study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4582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bbbbb"/>
                </a:solidFill>
                <a:latin typeface="Verdana"/>
              </a:rPr>
              <a:t>The Workplan Status:  Why RAM Disk???</a:t>
            </a:r>
            <a:endParaRPr b="0" lang="en-US" sz="24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600200"/>
            <a:ext cx="815364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bbbb"/>
                </a:solidFill>
                <a:latin typeface="Verdana"/>
              </a:rPr>
              <a:t>Servers moving from Marysville to Sacra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76240" indent="-304560">
              <a:lnSpc>
                <a:spcPct val="100000"/>
              </a:lnSpc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bbbb"/>
                </a:solidFill>
                <a:latin typeface="Verdana"/>
              </a:rPr>
              <a:t>Many Users changing from LAN to WAN, SLO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bbbb"/>
                </a:solidFill>
                <a:latin typeface="Verdana"/>
              </a:rPr>
              <a:t>Server Stability &amp; Performance Iss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76240" indent="-304560">
              <a:lnSpc>
                <a:spcPct val="100000"/>
              </a:lnSpc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bbbb"/>
                </a:solidFill>
                <a:latin typeface="Verdana"/>
              </a:rPr>
              <a:t>Performance Degregation by 50% at end of mon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76240" indent="-304560">
              <a:lnSpc>
                <a:spcPct val="100000"/>
              </a:lnSpc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bbbb"/>
                </a:solidFill>
                <a:latin typeface="Verdana"/>
              </a:rPr>
              <a:t>Server Lockup/Crash after three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bbbb"/>
                </a:solidFill>
                <a:latin typeface="Verdana"/>
              </a:rPr>
              <a:t>Multiple Users Access Server 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76240" indent="-304560">
              <a:lnSpc>
                <a:spcPct val="100000"/>
              </a:lnSpc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bbbb"/>
                </a:solidFill>
                <a:latin typeface="Verdana"/>
              </a:rPr>
              <a:t>Additional Training required to restore f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76240" indent="-304560">
              <a:lnSpc>
                <a:spcPct val="100000"/>
              </a:lnSpc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bbbb"/>
                </a:solidFill>
                <a:latin typeface="Verdana"/>
              </a:rPr>
              <a:t>Files Unavailable to End Us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Access Key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387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bbbbbb"/>
                </a:solidFill>
                <a:latin typeface="Verdana"/>
              </a:rPr>
              <a:t>How do I make a Access Key?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Access Key should have no menus, or other server specific information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Has one script--startup script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bbbb"/>
                </a:solidFill>
                <a:latin typeface="Verdana"/>
              </a:rPr>
              <a:t>Set Error Capture to On</a:t>
            </a:r>
            <a:endParaRPr b="0" lang="en-US" sz="20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bbbb"/>
                </a:solidFill>
                <a:latin typeface="Verdana"/>
              </a:rPr>
              <a:t>Checks user settings (Protocol, Username, etc) and provide instructions on how to correct settings</a:t>
            </a:r>
            <a:endParaRPr b="0" lang="en-US" sz="20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bbbb"/>
                </a:solidFill>
                <a:latin typeface="Verdana"/>
              </a:rPr>
              <a:t>Runs “Open” or “Open External Script” step to access the server</a:t>
            </a:r>
            <a:endParaRPr b="0" lang="en-US" sz="20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bbbb"/>
                </a:solidFill>
                <a:latin typeface="Verdana"/>
              </a:rPr>
              <a:t>Display error message if server cannot be reached</a:t>
            </a:r>
            <a:endParaRPr b="0" lang="en-US" sz="20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Distribute files to users (less than 30K)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Access Key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314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bbbbbb"/>
                </a:solidFill>
                <a:latin typeface="Verdana"/>
              </a:rPr>
              <a:t>Why should I use an Access Key?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Simple for users to use (no more “Open Hosts”)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Easier to distribute access key than directions for using Open Host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Users always go to the correct server and file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Verifies user settings prior to connecting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Allows for a consistent interface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Intercept error messages and present friendlier error messages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838080" y="4267080"/>
            <a:ext cx="7883640" cy="2030400"/>
            <a:chOff x="838080" y="4267080"/>
            <a:chExt cx="7883640" cy="2030400"/>
          </a:xfrm>
        </p:grpSpPr>
        <p:pic>
          <p:nvPicPr>
            <p:cNvPr id="329" name="" descr=""/>
            <p:cNvPicPr/>
            <p:nvPr/>
          </p:nvPicPr>
          <p:blipFill>
            <a:blip r:embed="rId1"/>
            <a:stretch/>
          </p:blipFill>
          <p:spPr>
            <a:xfrm>
              <a:off x="838080" y="4267080"/>
              <a:ext cx="258156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3903120" y="5029200"/>
              <a:ext cx="1031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Verdana"/>
                </a:rPr>
                <a:t>versu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31" name="" descr=""/>
            <p:cNvPicPr/>
            <p:nvPr/>
          </p:nvPicPr>
          <p:blipFill>
            <a:blip r:embed="rId2"/>
            <a:stretch/>
          </p:blipFill>
          <p:spPr>
            <a:xfrm>
              <a:off x="5334120" y="4419720"/>
              <a:ext cx="3387600" cy="175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Server Monitoring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52960" cy="494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bbbbb"/>
                </a:solidFill>
                <a:latin typeface="Verdana"/>
              </a:rPr>
              <a:t>“</a:t>
            </a:r>
            <a:r>
              <a:rPr b="0" lang="en-US" sz="2100" spc="-1" strike="noStrike">
                <a:solidFill>
                  <a:srgbClr val="bbbbbb"/>
                </a:solidFill>
                <a:latin typeface="Verdana"/>
              </a:rPr>
              <a:t>E.S.P.” like awareness of servers</a:t>
            </a:r>
            <a:endParaRPr b="0" lang="en-US" sz="21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bbbbb"/>
                </a:solidFill>
                <a:latin typeface="Verdana"/>
              </a:rPr>
              <a:t>Nearly instant notification of server outages</a:t>
            </a:r>
            <a:endParaRPr b="0" lang="en-US" sz="21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bbbbb"/>
                </a:solidFill>
                <a:latin typeface="Verdana"/>
              </a:rPr>
              <a:t>Reduces notification time by more than 50%</a:t>
            </a:r>
            <a:endParaRPr b="0" lang="en-US" sz="21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bbbbb"/>
                </a:solidFill>
                <a:latin typeface="Verdana"/>
              </a:rPr>
              <a:t>With RAM Disks, most time is spent in notification, not recovery.</a:t>
            </a:r>
            <a:endParaRPr b="0" lang="en-US" sz="21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bbbbb"/>
                </a:solidFill>
                <a:latin typeface="Verdana"/>
              </a:rPr>
              <a:t>Some monitoring software can perform scripts to automate a response</a:t>
            </a:r>
            <a:endParaRPr b="0" lang="en-US" sz="21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bbbbb"/>
                </a:solidFill>
                <a:latin typeface="Verdana"/>
              </a:rPr>
              <a:t>Notification via email, pages, alpha-pages, and web</a:t>
            </a:r>
            <a:endParaRPr b="0" lang="en-US" sz="2100" spc="-1" strike="noStrike">
              <a:solidFill>
                <a:srgbClr val="bbbbbb"/>
              </a:solidFill>
              <a:latin typeface="Verdana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648320" y="1143000"/>
            <a:ext cx="4190760" cy="23796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5867280" y="3809880"/>
            <a:ext cx="1943280" cy="191772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Server Monitoring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35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bbbbbb"/>
                </a:solidFill>
                <a:latin typeface="Verdana"/>
              </a:rPr>
              <a:t>How do I get E.S.P.?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Obtain server monitoring software</a:t>
            </a:r>
            <a:br>
              <a:rPr sz="2500"/>
            </a:br>
            <a:r>
              <a:rPr b="1" lang="en-US" sz="2500" spc="-1" strike="noStrike">
                <a:solidFill>
                  <a:srgbClr val="bbbbbb"/>
                </a:solidFill>
                <a:latin typeface="Verdana"/>
              </a:rPr>
              <a:t>http://whistleblower.sentman.com/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Enter server IP Addresses into the monitoring software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Select desired response: email, page, play sound, run AppleScript, etc.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Can monitor FileMaker, AppleShare, FTP, Mail, Web, and other servers.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Server Monitoring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458200" cy="213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bbbbbb"/>
                </a:solidFill>
                <a:latin typeface="Verdana"/>
              </a:rPr>
              <a:t>Why do I need E.S.P.?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Reduces administrator response time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Know about server outages before users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Automates recovery responses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Let’s you sleep better at night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bbbb"/>
                </a:solidFill>
                <a:latin typeface="Verdana"/>
              </a:rPr>
              <a:t>(Unless your servers go down at 2 AM)</a:t>
            </a:r>
            <a:endParaRPr b="0" lang="en-US" sz="22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Remote Administration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52960" cy="333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bbbbb"/>
                </a:solidFill>
                <a:latin typeface="Verdana"/>
              </a:rPr>
              <a:t>Remote Restarts and Shutdowns</a:t>
            </a:r>
            <a:endParaRPr b="0" lang="en-US" sz="21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bbbbb"/>
                </a:solidFill>
                <a:latin typeface="Verdana"/>
              </a:rPr>
              <a:t>Remotely perform minor updates, and maintenance</a:t>
            </a:r>
            <a:endParaRPr b="0" lang="en-US" sz="21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bbbbb"/>
                </a:solidFill>
                <a:latin typeface="Verdana"/>
              </a:rPr>
              <a:t>Monitor server performance and utilization from remotely</a:t>
            </a:r>
            <a:endParaRPr b="0" lang="en-US" sz="21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bbbbb"/>
                </a:solidFill>
                <a:latin typeface="Verdana"/>
              </a:rPr>
              <a:t>Can be performed over 28.8K modem, ISDN, DSL, and more</a:t>
            </a:r>
            <a:endParaRPr b="0" lang="en-US" sz="2100" spc="-1" strike="noStrike">
              <a:solidFill>
                <a:srgbClr val="bbbbbb"/>
              </a:solidFill>
              <a:latin typeface="Verdan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5257800" y="990720"/>
            <a:ext cx="3227400" cy="25653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5257800" y="3733920"/>
            <a:ext cx="320040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Remote Administration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458200" cy="34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bbbbbb"/>
                </a:solidFill>
                <a:latin typeface="Verdana"/>
              </a:rPr>
              <a:t>How do I set up Remote Access?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Timbuktu Pro for MacOS and Windows (95, 98, NT, 2000)</a:t>
            </a:r>
            <a:br>
              <a:rPr sz="2500"/>
            </a:br>
            <a:r>
              <a:rPr b="1" lang="en-US" sz="2500" spc="-1" strike="noStrike">
                <a:solidFill>
                  <a:srgbClr val="bbbbbb"/>
                </a:solidFill>
                <a:latin typeface="Verdana"/>
              </a:rPr>
              <a:t>http://www.netopia.com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Choose access methods: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bbbb"/>
                </a:solidFill>
                <a:latin typeface="Verdana"/>
              </a:rPr>
              <a:t>AppleTalk</a:t>
            </a:r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bbbb"/>
                </a:solidFill>
                <a:latin typeface="Verdana"/>
              </a:rPr>
              <a:t>TCP/IP</a:t>
            </a:r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bbbb"/>
                </a:solidFill>
                <a:latin typeface="Verdana"/>
              </a:rPr>
              <a:t>Direct Dial-Up)</a:t>
            </a:r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Set permissions and user access preferences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Remote Administration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458200" cy="31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Remote Restarts and Shutdowns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Remotely perform minor updates, and maintenance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Monitor server performance and utilization from remotely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Can be performed over 28.8K modem, ISDN, DSL, and more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Provide better superior customer service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Other Ways to Improve Performance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458200" cy="27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Return to paper and pencil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Randomly delete data (decreases database size and complexity)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Move to Montana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Visit TEC316 by Jeff Gagne &amp; Karl Pittenger         @ 15:45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25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bbbbbb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cc0f"/>
                </a:solidFill>
                <a:latin typeface="Verdana"/>
              </a:rPr>
              <a:t>Thank you!</a:t>
            </a:r>
            <a:endParaRPr b="0" lang="en-US" sz="4500" spc="-1" strike="noStrike">
              <a:solidFill>
                <a:srgbClr val="bbbbbb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bbbbbb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bbbbbb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bbbbbb"/>
                </a:solidFill>
                <a:latin typeface="Verdana"/>
              </a:rPr>
              <a:t>Please remember to fill out your evaluation.</a:t>
            </a:r>
            <a:endParaRPr b="0" lang="en-US" sz="29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441360"/>
            <a:ext cx="845820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Arial"/>
              </a:rPr>
              <a:t>RAM Disk Case Study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4582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bbbbb"/>
                </a:solidFill>
                <a:latin typeface="Verdana"/>
              </a:rPr>
              <a:t>The Workplan Status:  RAM Disk </a:t>
            </a:r>
            <a:r>
              <a:rPr b="1" i="1" lang="en-US" sz="2400" spc="-1" strike="noStrike">
                <a:solidFill>
                  <a:srgbClr val="bbbbbb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600200"/>
            <a:ext cx="815364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bbbb"/>
                </a:solidFill>
                <a:latin typeface="Verdana"/>
              </a:rPr>
              <a:t>Servers moving from Marysville to Sacra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76240" indent="-304560">
              <a:lnSpc>
                <a:spcPct val="100000"/>
              </a:lnSpc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bbbb"/>
                </a:solidFill>
                <a:latin typeface="Verdana"/>
              </a:rPr>
              <a:t>No User Identified loss in performanc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bbbb"/>
                </a:solidFill>
                <a:latin typeface="Verdana"/>
              </a:rPr>
              <a:t>Server Stability &amp; Performance Iss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76240" indent="-304560">
              <a:lnSpc>
                <a:spcPct val="100000"/>
              </a:lnSpc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bbbb"/>
                </a:solidFill>
                <a:latin typeface="Verdana"/>
              </a:rPr>
              <a:t>Performance Degregation elimin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76240" indent="-304560">
              <a:lnSpc>
                <a:spcPct val="100000"/>
              </a:lnSpc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bbbb"/>
                </a:solidFill>
                <a:latin typeface="Verdana"/>
              </a:rPr>
              <a:t>No Server Lockup/Crash at all, No Disk Defragm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bbbb"/>
                </a:solidFill>
                <a:latin typeface="Verdana"/>
              </a:rPr>
              <a:t>Multiple Users Access Server 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76240" indent="-304560">
              <a:lnSpc>
                <a:spcPct val="100000"/>
              </a:lnSpc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bbbb"/>
                </a:solidFill>
                <a:latin typeface="Verdana"/>
              </a:rPr>
              <a:t>File Resoration 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76240" indent="-304560">
              <a:lnSpc>
                <a:spcPct val="100000"/>
              </a:lnSpc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bbbb"/>
                </a:solidFill>
                <a:latin typeface="Verdana"/>
              </a:rPr>
              <a:t>Increased File Availability to us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bbbb"/>
                </a:solidFill>
                <a:latin typeface="Verdana"/>
              </a:rPr>
              <a:t>Direct Results of RAM Disk implement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76240" indent="-304560">
              <a:lnSpc>
                <a:spcPct val="100000"/>
              </a:lnSpc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bbbb"/>
                </a:solidFill>
                <a:latin typeface="Verdana"/>
              </a:rPr>
              <a:t>No Changes to File Solu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998440"/>
            <a:ext cx="777240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0f"/>
                </a:solidFill>
                <a:latin typeface="Verdana"/>
              </a:rPr>
              <a:t>Part II: RAM Disk Technology</a:t>
            </a:r>
            <a:endParaRPr b="0" lang="en-US" sz="26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4572000"/>
            <a:ext cx="777240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bbbb"/>
                </a:solidFill>
                <a:latin typeface="Verdana"/>
              </a:rPr>
              <a:t>How a RAM Disk works</a:t>
            </a:r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What is a RAM Disk?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362320" y="1218960"/>
            <a:ext cx="6324480" cy="17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bbbb"/>
                </a:solidFill>
                <a:latin typeface="Verdana"/>
              </a:rPr>
              <a:t>A block of physical memory allocated to act as a Hard Disk</a:t>
            </a:r>
            <a:endParaRPr b="0" lang="en-US" sz="2400" spc="-1" strike="noStrike">
              <a:solidFill>
                <a:srgbClr val="bbbbb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bbbb"/>
                </a:solidFill>
                <a:latin typeface="Verdana"/>
              </a:rPr>
              <a:t>RAM Disk software acts as the disk controller</a:t>
            </a:r>
            <a:endParaRPr b="0" lang="en-US" sz="2400" spc="-1" strike="noStrike">
              <a:solidFill>
                <a:srgbClr val="bbbbbb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1625760" cy="1625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457200" y="2895480"/>
            <a:ext cx="8153280" cy="21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1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bbbb"/>
                </a:solidFill>
                <a:latin typeface="Verdana"/>
              </a:rPr>
              <a:t>Performs identically to normal Hard Dis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bbbb"/>
                </a:solidFill>
                <a:latin typeface="Verdana"/>
              </a:rPr>
              <a:t>Provides faster Read/Write performance than Hard Dis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bbbb"/>
                </a:solidFill>
                <a:latin typeface="Verdana"/>
              </a:rPr>
              <a:t>Less prone to failure because they have no moving parts (Solid State Technolog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7T17:05:50Z</dcterms:created>
  <dc:creator>James L. Schek</dc:creator>
  <dc:description/>
  <dc:language>en-US</dc:language>
  <cp:lastModifiedBy>M.A.Scott</cp:lastModifiedBy>
  <cp:lastPrinted>2000-08-16T13:44:58Z</cp:lastPrinted>
  <dcterms:modified xsi:type="dcterms:W3CDTF">2001-06-21T15:57:39Z</dcterms:modified>
  <cp:revision>22</cp:revision>
  <dc:subject>Session Presentation Guidelines</dc:subject>
  <dc:title>FileMaker Server Increasing Performance with RAM Driv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0485760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F:\CONFEREN\API\TEMPLATE\CEB0005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485760</vt:r8>
  </property>
</Properties>
</file>